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EAB-0FDC-46A9-8168-9CBB5B24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C23C-3986-46D9-A587-4A099F5B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45D-8FA8-4BD3-BEAF-F93C8297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D6DF-B206-44E8-B921-DD7B8903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79E4-090A-4A4A-9831-8569D6B1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0C53-17C9-4BDD-8D70-8219B3EB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9976-CC2F-4EA2-A432-B0950AAA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22B1-B879-4A71-A2FB-B2037FB6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35A8-8941-4131-8678-9880220F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DE97-1FDD-48CC-A4B6-A28FB007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87A6-D51A-4A58-8B04-01B63969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92D-2D18-4D6E-A163-9E22FE87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1A3F-EEFC-4E86-8E9B-37557E5D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6357-1172-49A0-9785-5AC0AFFF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9942-5304-4B2C-AA6A-1235C970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9417-9446-49AD-AE76-067C7265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EBFF-AC52-41D0-A80A-53AC34C8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5F79-87D4-4D84-AD76-C5CBF075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9AC-15D5-43AC-882E-47E31C93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479-5EBE-4291-8F8F-25ADCBA1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E582-AA67-4B31-801A-FA71F321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3756-E83A-4D43-B8D4-3C499628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2AE0-A4BA-44D6-BAB9-AD048797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DA03-88B6-4874-B17C-80056494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5480" y="6477120"/>
            <a:ext cx="32767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2000 by Monica Yuskait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7F1B-39EC-400C-8D0B-052762AAFE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23BB-CEF2-4131-B307-649EA89DE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gl.microsoft.com/" TargetMode="External"/><Relationship Id="rId2" Type="http://schemas.openxmlformats.org/officeDocument/2006/relationships/hyperlink" Target="http://cgl.microsoft.com/" TargetMode="External"/><Relationship Id="rId3" Type="http://schemas.openxmlformats.org/officeDocument/2006/relationships/hyperlink" Target="http://cgl.microsoft.com/" TargetMode="External"/><Relationship Id="rId4" Type="http://schemas.openxmlformats.org/officeDocument/2006/relationships/hyperlink" Target="http://cgl.microsoft.com/" TargetMode="External"/><Relationship Id="rId5" Type="http://schemas.openxmlformats.org/officeDocument/2006/relationships/hyperlink" Target="http://cgl.microsoft.com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Percent III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Monica Yuskait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j0282809" descr=""/>
          <p:cNvPicPr/>
          <p:nvPr/>
        </p:nvPicPr>
        <p:blipFill>
          <a:blip r:embed="rId1"/>
          <a:stretch/>
        </p:blipFill>
        <p:spPr>
          <a:xfrm>
            <a:off x="3886200" y="220968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410080" y="1447920"/>
            <a:ext cx="3276720" cy="35049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nge this fraction to a perc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2160" y="2286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334476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3124080"/>
            <a:ext cx="63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1523880"/>
            <a:ext cx="358128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ird step is to place the decimal in the quotient directly above the decima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11120" y="2362320"/>
            <a:ext cx="9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26668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560" y="24382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30800" y="2438280"/>
            <a:ext cx="132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0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30800" y="16002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581280" y="2666880"/>
            <a:ext cx="0" cy="53352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486400" y="2590920"/>
            <a:ext cx="3276720" cy="25905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nge this fraction to a perc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160" y="2286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334476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92160" y="3124080"/>
            <a:ext cx="63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2743200"/>
            <a:ext cx="35812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urth step is to divide using long divis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11120" y="2362320"/>
            <a:ext cx="9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26668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560" y="24382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30800" y="2438280"/>
            <a:ext cx="132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0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30800" y="16002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581280" y="2666880"/>
            <a:ext cx="0" cy="53352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1600200"/>
            <a:ext cx="71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560" y="31240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9400" y="31240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41911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39625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9400" y="39625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19720" y="350532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16600" y="39625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6600" y="16002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59400" y="46483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6600" y="46483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56386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5410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16600" y="54100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638680" y="1523880"/>
            <a:ext cx="3505320" cy="36576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nge this fraction to a perc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2160" y="2286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334476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2160" y="3124080"/>
            <a:ext cx="63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1523880"/>
            <a:ext cx="35812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fth step is to move the decimal point 2 places to the right and change it to a percent sig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11120" y="2362320"/>
            <a:ext cx="9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26668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560" y="24382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30800" y="2438280"/>
            <a:ext cx="132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0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1523880"/>
            <a:ext cx="4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581280" y="2666880"/>
            <a:ext cx="0" cy="53352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1600200"/>
            <a:ext cx="71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560" y="31240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9400" y="31240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41911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39625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59400" y="39625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350532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16600" y="39625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16600" y="16002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9400" y="46483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16600" y="46483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56386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5410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6600" y="54100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3440" y="1600200"/>
            <a:ext cx="94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236232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morize These Equival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175248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242424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240" y="2286000"/>
            <a:ext cx="48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90988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358128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" y="3429000"/>
            <a:ext cx="48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403848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472428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4572000"/>
            <a:ext cx="71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19588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586728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7240" y="5729400"/>
            <a:ext cx="48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843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5320" y="213372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5320" y="320040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5320" y="42670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5320" y="533412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1981080"/>
            <a:ext cx="12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33720" y="3048120"/>
            <a:ext cx="12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5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4114800"/>
            <a:ext cx="12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75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51814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3.3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7320" y="22096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7320" y="327672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7320" y="434340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7320" y="54100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05000" y="2057400"/>
            <a:ext cx="162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66.6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05720" y="3124080"/>
            <a:ext cx="12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05720" y="4191120"/>
            <a:ext cx="12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52578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60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86400" y="182880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250020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87840" y="2362320"/>
            <a:ext cx="48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86400" y="297180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3657600"/>
            <a:ext cx="609840" cy="6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7840" y="3505320"/>
            <a:ext cx="48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403848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10080" y="4724280"/>
            <a:ext cx="609840" cy="6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87840" y="4572000"/>
            <a:ext cx="48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519588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10080" y="5881680"/>
            <a:ext cx="609840" cy="6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7840" y="5729400"/>
            <a:ext cx="48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What is the equivalent percent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09680" y="365760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33720" y="3505320"/>
            <a:ext cx="69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843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30440" y="3048120"/>
            <a:ext cx="7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48320" y="3048120"/>
            <a:ext cx="204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0%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33720" y="2514600"/>
            <a:ext cx="69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What is the equivalent percent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365760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33720" y="3505320"/>
            <a:ext cx="69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843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30440" y="3048120"/>
            <a:ext cx="7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8320" y="3048120"/>
            <a:ext cx="204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5%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33720" y="251460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What is the equivalent percent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09680" y="365760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33720" y="3505320"/>
            <a:ext cx="69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843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30440" y="3048120"/>
            <a:ext cx="7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3048120"/>
            <a:ext cx="204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75%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251460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What is the equivalent percent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09680" y="365760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33720" y="3505320"/>
            <a:ext cx="69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843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30440" y="3048120"/>
            <a:ext cx="7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47600" y="3048120"/>
            <a:ext cx="280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33.3%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33720" y="251460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What is the equivalent percent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09680" y="365760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33720" y="3505320"/>
            <a:ext cx="69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843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30440" y="3048120"/>
            <a:ext cx="7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47600" y="3048120"/>
            <a:ext cx="280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66.6%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251460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What is the equivalent percent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09680" y="365760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33720" y="3505320"/>
            <a:ext cx="69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843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30440" y="3048120"/>
            <a:ext cx="7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48320" y="3048120"/>
            <a:ext cx="204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0%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133720" y="251460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o Change Fractions to Perc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Divide the denominator into   the numerato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38080" y="3429000"/>
            <a:ext cx="762120" cy="3050280"/>
            <a:chOff x="838080" y="3429000"/>
            <a:chExt cx="762120" cy="3050280"/>
          </a:xfrm>
        </p:grpSpPr>
        <p:sp>
          <p:nvSpPr>
            <p:cNvPr id="94" name=""/>
            <p:cNvSpPr/>
            <p:nvPr/>
          </p:nvSpPr>
          <p:spPr>
            <a:xfrm>
              <a:off x="915840" y="3429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4487760"/>
              <a:ext cx="762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15840" y="4190760"/>
              <a:ext cx="6379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7" name="PRFPL019" descr=""/>
          <p:cNvPicPr/>
          <p:nvPr/>
        </p:nvPicPr>
        <p:blipFill>
          <a:blip r:embed="rId1"/>
          <a:stretch/>
        </p:blipFill>
        <p:spPr>
          <a:xfrm>
            <a:off x="6504120" y="3124080"/>
            <a:ext cx="2639880" cy="3300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057400" y="3276720"/>
            <a:ext cx="4191120" cy="2819160"/>
          </a:xfrm>
          <a:prstGeom prst="wedgeRoundRectCallout">
            <a:avLst>
              <a:gd name="adj1" fmla="val 61513"/>
              <a:gd name="adj2" fmla="val 0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3276720"/>
            <a:ext cx="4243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p!  You can’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de a larg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ber into 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er numb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What is the equivalent percent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9680" y="365760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33720" y="3505320"/>
            <a:ext cx="69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843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30440" y="3048120"/>
            <a:ext cx="7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3048120"/>
            <a:ext cx="204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40%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33720" y="251460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What is the equivalent percent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209680" y="365760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133720" y="3505320"/>
            <a:ext cx="69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843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30440" y="3048120"/>
            <a:ext cx="7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648320" y="3048120"/>
            <a:ext cx="204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60%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33720" y="251460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What is the equivalent percent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209680" y="3657600"/>
            <a:ext cx="60984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33720" y="3505320"/>
            <a:ext cx="69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843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30440" y="3048120"/>
            <a:ext cx="7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648320" y="3048120"/>
            <a:ext cx="204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80%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33720" y="251460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llustrations fro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el Gallery by Corel Cor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oderbund ClipArt T/Maker C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part from “Microsoft Clip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allery” located on the Interne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cgl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microsoft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.com/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clipgallerylive/default.asp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o Change Fractions to Perc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Divide the denominator into   the numerato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38080" y="3429000"/>
            <a:ext cx="762120" cy="3050280"/>
            <a:chOff x="838080" y="3429000"/>
            <a:chExt cx="762120" cy="3050280"/>
          </a:xfrm>
        </p:grpSpPr>
        <p:sp>
          <p:nvSpPr>
            <p:cNvPr id="103" name=""/>
            <p:cNvSpPr/>
            <p:nvPr/>
          </p:nvSpPr>
          <p:spPr>
            <a:xfrm>
              <a:off x="915840" y="3429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4487760"/>
              <a:ext cx="762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15840" y="4190760"/>
              <a:ext cx="6379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666880" y="3276720"/>
            <a:ext cx="4038840" cy="1676160"/>
          </a:xfrm>
          <a:prstGeom prst="wedgeRoundRectCallout">
            <a:avLst>
              <a:gd name="adj1" fmla="val 71185"/>
              <a:gd name="adj2" fmla="val 21495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3276720"/>
            <a:ext cx="42436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 you can if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use decimal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watch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CRTAN047" descr=""/>
          <p:cNvPicPr/>
          <p:nvPr/>
        </p:nvPicPr>
        <p:blipFill>
          <a:blip r:embed="rId1"/>
          <a:stretch/>
        </p:blipFill>
        <p:spPr>
          <a:xfrm>
            <a:off x="7184880" y="3657600"/>
            <a:ext cx="195912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o Change Fractions to Perc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2 – Add a decimal behind your dividend and two zero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57200" y="3809880"/>
            <a:ext cx="762120" cy="3050640"/>
            <a:chOff x="457200" y="3809880"/>
            <a:chExt cx="762120" cy="3050640"/>
          </a:xfrm>
        </p:grpSpPr>
        <p:sp>
          <p:nvSpPr>
            <p:cNvPr id="112" name=""/>
            <p:cNvSpPr/>
            <p:nvPr/>
          </p:nvSpPr>
          <p:spPr>
            <a:xfrm>
              <a:off x="534960" y="380988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" y="4869000"/>
              <a:ext cx="762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4960" y="4572000"/>
              <a:ext cx="6379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828800" y="2971800"/>
            <a:ext cx="4952880" cy="1295280"/>
          </a:xfrm>
          <a:prstGeom prst="wedgeRoundRectCallout">
            <a:avLst>
              <a:gd name="adj1" fmla="val 64935"/>
              <a:gd name="adj2" fmla="val 47060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3048120"/>
            <a:ext cx="4952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does it look like you can divid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28800" y="4383000"/>
            <a:ext cx="9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4724280"/>
            <a:ext cx="26672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9400" y="44956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4495680"/>
            <a:ext cx="14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0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CRTAN047" descr=""/>
          <p:cNvPicPr/>
          <p:nvPr/>
        </p:nvPicPr>
        <p:blipFill>
          <a:blip r:embed="rId1"/>
          <a:stretch/>
        </p:blipFill>
        <p:spPr>
          <a:xfrm>
            <a:off x="7184880" y="3657600"/>
            <a:ext cx="195912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o Change Fractions to Perc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3 – Place a decimal in your quotient exactly above the decima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3809880"/>
            <a:ext cx="762120" cy="3050640"/>
            <a:chOff x="457200" y="3809880"/>
            <a:chExt cx="762120" cy="3050640"/>
          </a:xfrm>
        </p:grpSpPr>
        <p:sp>
          <p:nvSpPr>
            <p:cNvPr id="125" name=""/>
            <p:cNvSpPr/>
            <p:nvPr/>
          </p:nvSpPr>
          <p:spPr>
            <a:xfrm>
              <a:off x="534960" y="380988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4869000"/>
              <a:ext cx="762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4960" y="4572000"/>
              <a:ext cx="6379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143000" y="2971800"/>
            <a:ext cx="5791320" cy="1295280"/>
          </a:xfrm>
          <a:prstGeom prst="wedgeRoundRectCallout">
            <a:avLst>
              <a:gd name="adj1" fmla="val 66421"/>
              <a:gd name="adj2" fmla="val 56740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3048120"/>
            <a:ext cx="65530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tting the decimal in the right spot is import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28800" y="4383000"/>
            <a:ext cx="9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4724280"/>
            <a:ext cx="26672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9400" y="44956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4495680"/>
            <a:ext cx="14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0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3657600"/>
            <a:ext cx="4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4495680"/>
            <a:ext cx="129528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CRTAN047" descr=""/>
          <p:cNvPicPr/>
          <p:nvPr/>
        </p:nvPicPr>
        <p:blipFill>
          <a:blip r:embed="rId1"/>
          <a:stretch/>
        </p:blipFill>
        <p:spPr>
          <a:xfrm>
            <a:off x="7184880" y="3657600"/>
            <a:ext cx="195912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o Change Fractions to Perc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4 – Divide exactly like you would with long divis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57200" y="3809880"/>
            <a:ext cx="762120" cy="3050640"/>
            <a:chOff x="457200" y="3809880"/>
            <a:chExt cx="762120" cy="3050640"/>
          </a:xfrm>
        </p:grpSpPr>
        <p:sp>
          <p:nvSpPr>
            <p:cNvPr id="140" name=""/>
            <p:cNvSpPr/>
            <p:nvPr/>
          </p:nvSpPr>
          <p:spPr>
            <a:xfrm>
              <a:off x="534960" y="380988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869000"/>
              <a:ext cx="762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4960" y="4572000"/>
              <a:ext cx="6379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629400" y="2895480"/>
            <a:ext cx="1828800" cy="1143000"/>
          </a:xfrm>
          <a:prstGeom prst="wedgeRoundRectCallout">
            <a:avLst>
              <a:gd name="adj1" fmla="val -5296"/>
              <a:gd name="adj2" fmla="val 92361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2895480"/>
            <a:ext cx="19051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23880" y="3544920"/>
            <a:ext cx="9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3886200"/>
            <a:ext cx="26668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4480" y="36576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3657600"/>
            <a:ext cx="14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0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2819520"/>
            <a:ext cx="4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2895480"/>
            <a:ext cx="100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4480" y="4297320"/>
            <a:ext cx="132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2 8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525780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50292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40280" y="50292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4648320"/>
            <a:ext cx="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5029200"/>
            <a:ext cx="60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7480" y="28954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38480" y="5638680"/>
            <a:ext cx="60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5638680"/>
            <a:ext cx="60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65530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6172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CRTAN047" descr=""/>
          <p:cNvPicPr/>
          <p:nvPr/>
        </p:nvPicPr>
        <p:blipFill>
          <a:blip r:embed="rId1"/>
          <a:stretch/>
        </p:blipFill>
        <p:spPr>
          <a:xfrm>
            <a:off x="7184880" y="3886200"/>
            <a:ext cx="195912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o Change Fractions to Perc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ep 5 – Move the decimal 2 places to the right and change the decimal to a percent sig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143000" y="3733920"/>
            <a:ext cx="762120" cy="3050280"/>
            <a:chOff x="1143000" y="3733920"/>
            <a:chExt cx="762120" cy="3050280"/>
          </a:xfrm>
        </p:grpSpPr>
        <p:sp>
          <p:nvSpPr>
            <p:cNvPr id="166" name=""/>
            <p:cNvSpPr/>
            <p:nvPr/>
          </p:nvSpPr>
          <p:spPr>
            <a:xfrm>
              <a:off x="1220760" y="373392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43000" y="4792680"/>
              <a:ext cx="762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20760" y="4495680"/>
              <a:ext cx="6379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410080" y="3048120"/>
            <a:ext cx="3353040" cy="1143000"/>
          </a:xfrm>
          <a:prstGeom prst="wedgeRoundRectCallout">
            <a:avLst>
              <a:gd name="adj1" fmla="val -1703"/>
              <a:gd name="adj2" fmla="val 89027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3048120"/>
            <a:ext cx="30477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wasn’t that easy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3886200"/>
            <a:ext cx="41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3962520"/>
            <a:ext cx="100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3080" y="39625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5181480"/>
            <a:ext cx="106668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4840" y="3962520"/>
            <a:ext cx="94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11840" y="403848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CRTAN047" descr=""/>
          <p:cNvPicPr/>
          <p:nvPr/>
        </p:nvPicPr>
        <p:blipFill>
          <a:blip r:embed="rId1"/>
          <a:stretch/>
        </p:blipFill>
        <p:spPr>
          <a:xfrm>
            <a:off x="7184880" y="4038480"/>
            <a:ext cx="1959120" cy="2502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895480" y="4724280"/>
            <a:ext cx="38124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257800" y="1828800"/>
            <a:ext cx="3581280" cy="27432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nge this fraction to a perc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92160" y="2286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34476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2160" y="3124080"/>
            <a:ext cx="63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1828800"/>
            <a:ext cx="358128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step is to divide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o the numerato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11120" y="2362320"/>
            <a:ext cx="9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26668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560" y="24382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791320" y="1905120"/>
            <a:ext cx="3047760" cy="32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nge this fraction to a perc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92160" y="2286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334476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2160" y="3124080"/>
            <a:ext cx="63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057400"/>
            <a:ext cx="358128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o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s to ad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ecimal &amp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zeros after the dividen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11120" y="2362320"/>
            <a:ext cx="9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6668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560" y="24382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30800" y="2438280"/>
            <a:ext cx="132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0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13:39:32Z</dcterms:created>
  <dc:creator>Monica/Bob Yuskaitis</dc:creator>
  <dc:description/>
  <dc:language>en-US</dc:language>
  <cp:lastModifiedBy>Monica/Bob Yuskaitis</cp:lastModifiedBy>
  <dcterms:modified xsi:type="dcterms:W3CDTF">2000-02-24T15:27:39Z</dcterms:modified>
  <cp:revision>21</cp:revision>
  <dc:subject/>
  <dc:title>Percent</dc:title>
</cp:coreProperties>
</file>